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A95-08AA-4BB4-AD42-2B98FAEA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4F4-6256-4FCF-B01E-92E2B772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02F-CABC-41C4-A833-C02309BF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520-05A0-4A97-BE8C-EAB7D397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66F-FE24-4D47-9196-26BEA5D5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3FF-FEB2-4F0B-BD73-4940600F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C82-E0B5-419F-84E3-387B7A5A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F83-9CA4-400C-885A-267BE868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CDE-9488-4987-ACA0-847BC0A7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2A3-30FF-419E-9D1C-9EBF4220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5B0-9639-4819-8140-E86C9EF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8BF-9D9F-4660-81BC-39BFCA0D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A7A1-66E5-41EC-94BE-A8078C821E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3CF5-C270-4AEA-92CF-E3EFC2A62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762120" y="1219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A national platform for institutional l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arning and policy action on NRM in Ethi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6095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– 23 July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FB06-9E7C-413B-8CE8-BB645F442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Logic and justific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93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water, forests, food security, it is all connected (Rio+20);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eed for integrated approach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ustainabl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, the effect of climate change and variability in Ethiopia well established, but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mited institutional capa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spond (DFID/SC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ack of systematic comparison of wh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ies and approaches work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where, when, and wh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rrey &amp; Gebreselassie,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Weak institutional linkages, sectoral policies, fragmented invest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 cross-institutional learning, local action, polic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daptive capac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mmunities and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sponsiveness of instit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acilitate action in NRM need to be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ntegr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development and policy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active platform for governmental institutions, NGOs, donors, private sector and civil societies, etc. to develop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collective action on NRM for sustainable development in 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4EC5-C4CB-4284-B1D1-217977BA7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 sharing an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 evidence-based policy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 effective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institutional &amp; polic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institution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out and up best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F165-0097-4214-9E4F-983A23BA3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Strategie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55" name="Content Placeholder 4" descr=""/>
          <p:cNvPicPr/>
          <p:nvPr/>
        </p:nvPicPr>
        <p:blipFill>
          <a:blip r:embed="rId1"/>
          <a:stretch/>
        </p:blipFill>
        <p:spPr>
          <a:xfrm>
            <a:off x="1206360" y="1895400"/>
            <a:ext cx="7340760" cy="414036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A7B7-F4CE-4E73-8AD4-1551AF75B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Approach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6019920"/>
            <a:ext cx="1447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ther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39152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 district 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73915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 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1774440" y="2438280"/>
            <a:ext cx="1066680" cy="35816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2743200" y="1689120"/>
            <a:ext cx="4495680" cy="1054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39152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ional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5"/>
          <p:cNvSpPr/>
          <p:nvPr/>
        </p:nvSpPr>
        <p:spPr>
          <a:xfrm>
            <a:off x="3733920" y="6019920"/>
            <a:ext cx="1904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ites within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>
            <a:off x="5181480" y="556272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>
            <a:off x="5105520" y="411480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5791320" y="601992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n-project sites within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0"/>
          <p:cNvSpPr/>
          <p:nvPr/>
        </p:nvSpPr>
        <p:spPr>
          <a:xfrm>
            <a:off x="4800600" y="266688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1"/>
          <p:cNvSpPr/>
          <p:nvPr/>
        </p:nvSpPr>
        <p:spPr>
          <a:xfrm>
            <a:off x="6019920" y="5562720"/>
            <a:ext cx="0" cy="45720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>
            <a:off x="7924680" y="533412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5"/>
          <p:cNvSpPr/>
          <p:nvPr/>
        </p:nvSpPr>
        <p:spPr>
          <a:xfrm>
            <a:off x="7924680" y="5943600"/>
            <a:ext cx="0" cy="3808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6"/>
          <p:cNvSpPr/>
          <p:nvPr/>
        </p:nvSpPr>
        <p:spPr>
          <a:xfrm>
            <a:off x="8077320" y="53341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aring &amp;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8077320" y="59403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caling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2"/>
          <p:cNvSpPr/>
          <p:nvPr/>
        </p:nvSpPr>
        <p:spPr>
          <a:xfrm flipV="1">
            <a:off x="63244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3"/>
          <p:cNvSpPr/>
          <p:nvPr/>
        </p:nvSpPr>
        <p:spPr>
          <a:xfrm>
            <a:off x="6324480" y="4114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4"/>
          <p:cNvSpPr/>
          <p:nvPr/>
        </p:nvSpPr>
        <p:spPr>
          <a:xfrm>
            <a:off x="6248520" y="2743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5"/>
          <p:cNvSpPr/>
          <p:nvPr/>
        </p:nvSpPr>
        <p:spPr>
          <a:xfrm flipV="1">
            <a:off x="6705720" y="2361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5880" y="19810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733920" y="19051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5105520" y="21337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4952880" y="17524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4343400" y="21337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3657600" y="23623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2971800" y="205740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ounded Rectangle 129" descr=""/>
          <p:cNvPicPr/>
          <p:nvPr/>
        </p:nvPicPr>
        <p:blipFill>
          <a:blip r:embed="rId1"/>
          <a:stretch/>
        </p:blipFill>
        <p:spPr>
          <a:xfrm>
            <a:off x="907920" y="1670040"/>
            <a:ext cx="586080" cy="4127400"/>
          </a:xfrm>
          <a:prstGeom prst="rect">
            <a:avLst/>
          </a:prstGeom>
          <a:ln w="0">
            <a:noFill/>
          </a:ln>
        </p:spPr>
      </p:pic>
      <p:sp>
        <p:nvSpPr>
          <p:cNvPr id="86" name="Rounded Rectangle 130"/>
          <p:cNvSpPr/>
          <p:nvPr/>
        </p:nvSpPr>
        <p:spPr>
          <a:xfrm>
            <a:off x="6934320" y="762120"/>
            <a:ext cx="1981080" cy="533160"/>
          </a:xfrm>
          <a:prstGeom prst="roundRect">
            <a:avLst>
              <a:gd name="adj" fmla="val 16667"/>
            </a:avLst>
          </a:prstGeom>
          <a:solidFill>
            <a:srgbClr val="d4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 for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eft-Right Arrow 132"/>
          <p:cNvSpPr/>
          <p:nvPr/>
        </p:nvSpPr>
        <p:spPr>
          <a:xfrm>
            <a:off x="1676520" y="2057400"/>
            <a:ext cx="609480" cy="255600"/>
          </a:xfrm>
          <a:prstGeom prst="leftRight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eft-Right Arrow 135"/>
          <p:cNvSpPr/>
          <p:nvPr/>
        </p:nvSpPr>
        <p:spPr>
          <a:xfrm>
            <a:off x="1676520" y="4952880"/>
            <a:ext cx="609480" cy="255600"/>
          </a:xfrm>
          <a:prstGeom prst="leftRight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eft-Right Arrow 136"/>
          <p:cNvSpPr/>
          <p:nvPr/>
        </p:nvSpPr>
        <p:spPr>
          <a:xfrm>
            <a:off x="1676520" y="3505320"/>
            <a:ext cx="609480" cy="255600"/>
          </a:xfrm>
          <a:prstGeom prst="leftRight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eft-Right Arrow 137"/>
          <p:cNvSpPr/>
          <p:nvPr/>
        </p:nvSpPr>
        <p:spPr>
          <a:xfrm rot="18607800">
            <a:off x="6809400" y="1473480"/>
            <a:ext cx="469800" cy="255600"/>
          </a:xfrm>
          <a:prstGeom prst="leftRightArrow">
            <a:avLst>
              <a:gd name="adj1" fmla="val 50000"/>
              <a:gd name="adj2" fmla="val 4995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aptop"/>
          <p:cNvSpPr/>
          <p:nvPr/>
        </p:nvSpPr>
        <p:spPr>
          <a:xfrm>
            <a:off x="1752480" y="380880"/>
            <a:ext cx="1371600" cy="762120"/>
          </a:xfrm>
          <a:custGeom>
            <a:avLst/>
            <a:gdLst>
              <a:gd name="textAreaLeft" fmla="*/ 282240 w 1371600"/>
              <a:gd name="textAreaRight" fmla="*/ 1099440 w 1371600"/>
              <a:gd name="textAreaTop" fmla="*/ 65520 h 762120"/>
              <a:gd name="textAreaBottom" fmla="*/ 434880 h 7621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39"/>
          <p:cNvSpPr/>
          <p:nvPr/>
        </p:nvSpPr>
        <p:spPr>
          <a:xfrm>
            <a:off x="1981080" y="407880"/>
            <a:ext cx="9144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8"/>
          <p:cNvSpPr/>
          <p:nvPr/>
        </p:nvSpPr>
        <p:spPr>
          <a:xfrm>
            <a:off x="2743200" y="3060720"/>
            <a:ext cx="4495680" cy="1054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9"/>
          <p:cNvSpPr/>
          <p:nvPr/>
        </p:nvSpPr>
        <p:spPr>
          <a:xfrm>
            <a:off x="6095880" y="33526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3657600" y="32767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5105520" y="35053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4952880" y="31240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3"/>
          <p:cNvSpPr/>
          <p:nvPr/>
        </p:nvSpPr>
        <p:spPr>
          <a:xfrm>
            <a:off x="4343400" y="35053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3581280" y="373392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5"/>
          <p:cNvSpPr/>
          <p:nvPr/>
        </p:nvSpPr>
        <p:spPr>
          <a:xfrm>
            <a:off x="2971800" y="342900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2743200" y="4508640"/>
            <a:ext cx="4495680" cy="1054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6095880" y="480060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3733920" y="47242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5105520" y="49528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2"/>
          <p:cNvSpPr/>
          <p:nvPr/>
        </p:nvSpPr>
        <p:spPr>
          <a:xfrm>
            <a:off x="4952880" y="457200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4343400" y="49528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3657600" y="51814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2971800" y="48769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3"/>
          <p:cNvSpPr/>
          <p:nvPr/>
        </p:nvSpPr>
        <p:spPr>
          <a:xfrm>
            <a:off x="6172200" y="3962520"/>
            <a:ext cx="587520" cy="205740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44"/>
          <p:cNvSpPr/>
          <p:nvPr/>
        </p:nvSpPr>
        <p:spPr>
          <a:xfrm flipH="1">
            <a:off x="2701440" y="4114800"/>
            <a:ext cx="879480" cy="190512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1"/>
          <p:cNvSpPr/>
          <p:nvPr/>
        </p:nvSpPr>
        <p:spPr>
          <a:xfrm flipV="1">
            <a:off x="662940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5410080" y="2666880"/>
            <a:ext cx="0" cy="18288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8"/>
          <p:cNvSpPr/>
          <p:nvPr/>
        </p:nvSpPr>
        <p:spPr>
          <a:xfrm>
            <a:off x="4419720" y="4114800"/>
            <a:ext cx="0" cy="190512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6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FD5-4D36-49B0-A875-4422952E1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olicy fo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trengthened national platform on N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ilding on NBDC initiated platform on land and wat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Regional platfor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jor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Local platfor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learning sites at landscape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and organizational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apacity bu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mmunication and K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documentation, sharing &amp;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ffective monitoring, learning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8138-2FF2-4203-8AE6-3ABDCF28C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MEL framework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752480" y="1828800"/>
            <a:ext cx="7086240" cy="3962160"/>
            <a:chOff x="1752480" y="1828800"/>
            <a:chExt cx="7086240" cy="3962160"/>
          </a:xfrm>
        </p:grpSpPr>
        <p:sp>
          <p:nvSpPr>
            <p:cNvPr id="120" name="Puzzle2"/>
            <p:cNvSpPr/>
            <p:nvPr/>
          </p:nvSpPr>
          <p:spPr>
            <a:xfrm>
              <a:off x="4393080" y="3362760"/>
              <a:ext cx="4445640" cy="19177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Enabling 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Puzzle4"/>
            <p:cNvSpPr/>
            <p:nvPr/>
          </p:nvSpPr>
          <p:spPr>
            <a:xfrm>
              <a:off x="2692440" y="3339000"/>
              <a:ext cx="2680920" cy="2451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imes New Roman"/>
                </a:rPr>
                <a:t>Habits/Practice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Puzzle1"/>
            <p:cNvSpPr/>
            <p:nvPr/>
          </p:nvSpPr>
          <p:spPr>
            <a:xfrm>
              <a:off x="1752480" y="2465640"/>
              <a:ext cx="4501080" cy="14616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imes New Roman"/>
                </a:rPr>
                <a:t>Acto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Puzzle3"/>
            <p:cNvSpPr/>
            <p:nvPr/>
          </p:nvSpPr>
          <p:spPr>
            <a:xfrm>
              <a:off x="5203440" y="1828800"/>
              <a:ext cx="2785320" cy="21056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imes New Roman"/>
                </a:rPr>
                <a:t>Linkag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1276-527E-49DE-80D9-3B5385091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Risks and Assumption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uccessful implementation &amp; achievement of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 community 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ment to work on common goals across s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gnment with government ag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Longer-term impact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interest in sustainable development and climate change and associated financial and institutional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ment of Ethiopian government to improve NRM for food security and environmenta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isks of du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platforms/networks, but most have limited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platform on land and water management, first nationwide initiative representing wide diversity of 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7A81-D100-4198-B133-102B0EAB8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5FD5-FE4C-4F50-AB1F-986344A08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Kentice Tikolo</dc:creator>
  <dc:description/>
  <dc:language>en-US</dc:language>
  <cp:lastModifiedBy>mmulatu</cp:lastModifiedBy>
  <dcterms:modified xsi:type="dcterms:W3CDTF">2012-08-04T10:35:05Z</dcterms:modified>
  <cp:revision>447</cp:revision>
  <dc:subject/>
  <dc:title>PowerPoint Presentation</dc:title>
</cp:coreProperties>
</file>